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6.gif" ContentType="image/gif"/>
  <Override PartName="/ppt/media/image7.gif" ContentType="image/gi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032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C01C-F77A-4343-A7BA-972D7E7284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3760" y="685440"/>
            <a:ext cx="44704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8B51-CED7-448E-86B6-C4AEBB0B9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749E-B6FB-4014-A7C2-682A12D719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9BA4-83CC-4168-B41C-7FB532BEA8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CA01-B3EA-464A-8891-09EF63A57A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B650-D6E3-4307-826D-2749C616FF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C94B-182D-46DA-83D5-F4F016D82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AE4B-A6DB-4994-A001-05D6D600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AADC-CC20-4495-9B7A-BAC71B57A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C005-862F-4910-B4FE-79DBCB235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A57C-A33F-4545-8472-4610F71B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AC12-12E8-48A9-8741-767034AF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ED00-2965-4ED8-99BF-C02468A0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9684-A685-4C70-BF44-525757E6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7E87-4C6F-4667-B527-A3A28B92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8525-A257-4912-AD6A-511815A7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861E-B605-4C35-A743-0E440C7E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46C1-E6A1-4E07-ACDE-A3246B55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046A7-206E-47EE-830F-4A45CBED6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halkbored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llision Theory and Activation 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619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plaining how and why factors affect reaction r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6" descr="j0115390"/>
          <p:cNvPicPr/>
          <p:nvPr/>
        </p:nvPicPr>
        <p:blipFill>
          <a:blip r:embed="rId2"/>
          <a:stretch/>
        </p:blipFill>
        <p:spPr>
          <a:xfrm>
            <a:off x="838080" y="3000240"/>
            <a:ext cx="7162920" cy="3857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METEOR"/>
          <p:cNvPicPr/>
          <p:nvPr/>
        </p:nvPicPr>
        <p:blipFill>
          <a:blip r:embed="rId3"/>
          <a:stretch/>
        </p:blipFill>
        <p:spPr>
          <a:xfrm>
            <a:off x="8188200" y="76320"/>
            <a:ext cx="887400" cy="990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EARTH"/>
          <p:cNvPicPr/>
          <p:nvPr/>
        </p:nvPicPr>
        <p:blipFill>
          <a:blip r:embed="rId4"/>
          <a:stretch/>
        </p:blipFill>
        <p:spPr>
          <a:xfrm>
            <a:off x="7273800" y="907920"/>
            <a:ext cx="1149480" cy="11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Transition state the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60912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ad remainder of 18.7 (pg. 756 – 75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7772400" y="6464160"/>
            <a:ext cx="1295280" cy="304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 more lessons, visit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chalkbored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1" dur="1" fill="hold"/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1" descr="disk"/>
          <p:cNvPicPr/>
          <p:nvPr/>
        </p:nvPicPr>
        <p:blipFill>
          <a:blip r:embed="rId2"/>
          <a:stretch/>
        </p:blipFill>
        <p:spPr>
          <a:xfrm>
            <a:off x="0" y="3932280"/>
            <a:ext cx="9144000" cy="27734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The Maxwell-Boltzmann apparat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axwell and Boltzmann performed an experiment to determine the kinetic energy distribution of 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ecause all atoms of an element have roughly the same mass, the kinetic energy of identical  atoms is determined by velocity (KE= ½mv</a:t>
            </a:r>
            <a:r>
              <a:rPr b="1" lang="en-US" sz="32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2" dur="1" fill="hold"/>
                                  <p:tgtEl>
                                    <p:spTgt spid="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032" descr="diskani5"/>
          <p:cNvPicPr/>
          <p:nvPr/>
        </p:nvPicPr>
        <p:blipFill>
          <a:blip r:embed="rId2"/>
          <a:stretch/>
        </p:blipFill>
        <p:spPr>
          <a:xfrm>
            <a:off x="542880" y="3952800"/>
            <a:ext cx="8058240" cy="244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The Maxwell-Boltzmann apparat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axwell and Boltzmann performed an experiment to determine the kinetic energy distribution of 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ecause all atoms of an element have roughly the same mass, the kinetic energy of identical  atoms is determined by velocity (KE= ½mv</a:t>
            </a:r>
            <a:r>
              <a:rPr b="1" lang="en-US" sz="32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The Maxwell-Boltzmann apparat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axwell and Boltzmann performed an experiment to determine the kinetic energy distribution of 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ecause all atoms of an element have roughly the same mass, the kinetic energy of identical  atoms is determined by velocity (KE= ½mv</a:t>
            </a:r>
            <a:r>
              <a:rPr b="1" lang="en-US" sz="32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diskani3"/>
          <p:cNvPicPr/>
          <p:nvPr/>
        </p:nvPicPr>
        <p:blipFill>
          <a:blip r:embed="rId2"/>
          <a:stretch/>
        </p:blipFill>
        <p:spPr>
          <a:xfrm>
            <a:off x="542880" y="3952800"/>
            <a:ext cx="80582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The Maxwell-Boltzmann distrib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89917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170280" indent="-1702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resulting disk looks like th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disk1"/>
          <p:cNvPicPr/>
          <p:nvPr/>
        </p:nvPicPr>
        <p:blipFill>
          <a:blip r:embed="rId2"/>
          <a:stretch/>
        </p:blipFill>
        <p:spPr>
          <a:xfrm>
            <a:off x="5904000" y="533520"/>
            <a:ext cx="3240000" cy="35812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7"/>
          <p:cNvSpPr/>
          <p:nvPr/>
        </p:nvSpPr>
        <p:spPr>
          <a:xfrm>
            <a:off x="838080" y="1295280"/>
            <a:ext cx="57150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asically, if we plot the intensity of the dots on a graph we get a graph of fraction of atoms/molecules vs. kinetic energ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20"/>
          <p:cNvGrpSpPr/>
          <p:nvPr/>
        </p:nvGrpSpPr>
        <p:grpSpPr>
          <a:xfrm>
            <a:off x="1143000" y="3962520"/>
            <a:ext cx="6324480" cy="2435040"/>
            <a:chOff x="1143000" y="3962520"/>
            <a:chExt cx="6324480" cy="2435040"/>
          </a:xfrm>
        </p:grpSpPr>
        <p:sp>
          <p:nvSpPr>
            <p:cNvPr id="67" name="Line 9"/>
            <p:cNvSpPr/>
            <p:nvPr/>
          </p:nvSpPr>
          <p:spPr>
            <a:xfrm>
              <a:off x="3378240" y="3962520"/>
              <a:ext cx="3240" cy="18320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10"/>
            <p:cNvSpPr/>
            <p:nvPr/>
          </p:nvSpPr>
          <p:spPr>
            <a:xfrm>
              <a:off x="3378240" y="5794560"/>
              <a:ext cx="3871800" cy="288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378240" y="4110120"/>
              <a:ext cx="3738600" cy="1684440"/>
            </a:xfrm>
            <a:prstGeom prst="pie">
              <a:avLst/>
            </a:prstGeom>
            <a:noFill/>
            <a:ln w="381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2"/>
            <p:cNvSpPr/>
            <p:nvPr/>
          </p:nvSpPr>
          <p:spPr>
            <a:xfrm>
              <a:off x="1143000" y="4568760"/>
              <a:ext cx="20937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90000"/>
                  </a:solidFill>
                  <a:latin typeface="Arial"/>
                </a:rPr>
                <a:t>Fraction of molecul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13"/>
            <p:cNvSpPr/>
            <p:nvPr/>
          </p:nvSpPr>
          <p:spPr>
            <a:xfrm>
              <a:off x="3591000" y="5940360"/>
              <a:ext cx="3876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90000"/>
                  </a:solidFill>
                  <a:latin typeface="Arial"/>
                </a:rPr>
                <a:t>Kinetic energy </a:t>
              </a:r>
              <a:r>
                <a:rPr b="1" lang="en-US" sz="3200" spc="-1" strike="noStrike">
                  <a:solidFill>
                    <a:srgbClr val="990000"/>
                  </a:solidFill>
                  <a:latin typeface="Symbol"/>
                  <a:ea typeface="Symbol"/>
                </a:rPr>
                <a:t>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Rectangle 15"/>
          <p:cNvSpPr/>
          <p:nvPr/>
        </p:nvSpPr>
        <p:spPr>
          <a:xfrm>
            <a:off x="6553080" y="4267080"/>
            <a:ext cx="2133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olecules hit disk f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6"/>
          <p:cNvSpPr/>
          <p:nvPr/>
        </p:nvSpPr>
        <p:spPr>
          <a:xfrm flipH="1">
            <a:off x="7009920" y="5257800"/>
            <a:ext cx="838440" cy="4572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7"/>
          <p:cNvSpPr/>
          <p:nvPr/>
        </p:nvSpPr>
        <p:spPr>
          <a:xfrm flipH="1">
            <a:off x="8610120" y="1219320"/>
            <a:ext cx="228600" cy="914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8"/>
          <p:cNvSpPr/>
          <p:nvPr/>
        </p:nvSpPr>
        <p:spPr>
          <a:xfrm flipH="1">
            <a:off x="8610120" y="1219320"/>
            <a:ext cx="228600" cy="914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9"/>
          <p:cNvSpPr/>
          <p:nvPr/>
        </p:nvSpPr>
        <p:spPr>
          <a:xfrm flipH="1">
            <a:off x="8610120" y="1219320"/>
            <a:ext cx="228600" cy="914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21"/>
          <p:cNvSpPr/>
          <p:nvPr/>
        </p:nvSpPr>
        <p:spPr>
          <a:xfrm>
            <a:off x="533520" y="5791320"/>
            <a:ext cx="2133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olecules hit disk l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22"/>
          <p:cNvSpPr/>
          <p:nvPr/>
        </p:nvSpPr>
        <p:spPr>
          <a:xfrm flipV="1">
            <a:off x="2743200" y="5866920"/>
            <a:ext cx="685800" cy="2286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23"/>
          <p:cNvSpPr/>
          <p:nvPr/>
        </p:nvSpPr>
        <p:spPr>
          <a:xfrm flipH="1">
            <a:off x="6553080" y="1066680"/>
            <a:ext cx="152640" cy="6858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24"/>
          <p:cNvSpPr/>
          <p:nvPr/>
        </p:nvSpPr>
        <p:spPr>
          <a:xfrm flipH="1">
            <a:off x="6553080" y="1066680"/>
            <a:ext cx="152640" cy="6858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25"/>
          <p:cNvSpPr/>
          <p:nvPr/>
        </p:nvSpPr>
        <p:spPr>
          <a:xfrm flipH="1">
            <a:off x="6553080" y="1066680"/>
            <a:ext cx="152640" cy="6858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Why is the graph skew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1920" y="457200"/>
            <a:ext cx="89917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82960" indent="-28296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s curve is characteristic of all molec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2960" indent="-28296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curve is elongated due to how atoms collide, and to the units of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2960" indent="-28296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call all particles are in motion.  An average speed will be reach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2960" indent="-28296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graph is skewed because 0 is the lower limit, but theoretically there is no upper lim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4648320" y="4800600"/>
            <a:ext cx="45720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200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ame data, different axes. E.g.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=1, KE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200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=2, KE=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200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=3, KE=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Group 11"/>
          <p:cNvGrpSpPr/>
          <p:nvPr/>
        </p:nvGrpSpPr>
        <p:grpSpPr>
          <a:xfrm>
            <a:off x="152280" y="4624560"/>
            <a:ext cx="2133720" cy="2162160"/>
            <a:chOff x="152280" y="4624560"/>
            <a:chExt cx="2133720" cy="2162160"/>
          </a:xfrm>
        </p:grpSpPr>
        <p:pic>
          <p:nvPicPr>
            <p:cNvPr id="86" name="Picture 5" descr="kemol2"/>
            <p:cNvPicPr/>
            <p:nvPr/>
          </p:nvPicPr>
          <p:blipFill>
            <a:blip r:embed="rId2"/>
            <a:stretch/>
          </p:blipFill>
          <p:spPr>
            <a:xfrm>
              <a:off x="152280" y="4624560"/>
              <a:ext cx="2133720" cy="21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Rectangle 8"/>
            <p:cNvSpPr/>
            <p:nvPr/>
          </p:nvSpPr>
          <p:spPr>
            <a:xfrm>
              <a:off x="457200" y="6405480"/>
              <a:ext cx="16002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2008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velocit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Group 12"/>
          <p:cNvGrpSpPr/>
          <p:nvPr/>
        </p:nvGrpSpPr>
        <p:grpSpPr>
          <a:xfrm>
            <a:off x="2438280" y="4675320"/>
            <a:ext cx="2057400" cy="2106360"/>
            <a:chOff x="2438280" y="4675320"/>
            <a:chExt cx="2057400" cy="2106360"/>
          </a:xfrm>
        </p:grpSpPr>
        <p:pic>
          <p:nvPicPr>
            <p:cNvPr id="89" name="Picture 6" descr="kemol3"/>
            <p:cNvPicPr/>
            <p:nvPr/>
          </p:nvPicPr>
          <p:blipFill>
            <a:blip r:embed="rId3"/>
            <a:stretch/>
          </p:blipFill>
          <p:spPr>
            <a:xfrm>
              <a:off x="2438280" y="4675320"/>
              <a:ext cx="2057400" cy="20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Rectangle 9"/>
            <p:cNvSpPr/>
            <p:nvPr/>
          </p:nvSpPr>
          <p:spPr>
            <a:xfrm>
              <a:off x="2666880" y="6400800"/>
              <a:ext cx="160020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2008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K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Rectangle 10"/>
          <p:cNvSpPr/>
          <p:nvPr/>
        </p:nvSpPr>
        <p:spPr>
          <a:xfrm>
            <a:off x="150840" y="3733920"/>
            <a:ext cx="8991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ore than that the graph is skewed because the x-axis has units of energy not velo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4" dur="1" fill="hold"/>
                                  <p:tgtEl>
                                    <p:spTgt spid="8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Temperature and reaction r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60912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y understanding the Maxwell-Boltzmann distribution, we can begin to understand the two reasons why an increase in temperature causes an increase in reaction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ad pg. 754 - 755 (starting at 18.7), answer questions 18.61 - 18.64 on pg. 773 and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Q- Look back at the five factors that affect reaction rates.  Three of these factors can be (at least in part) explained by the collision theory.  Identify the 3 factors and explain how the affect of each can be explained with reference to the collision the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6" dur="1" fill="hold"/>
                                  <p:tgtEl>
                                    <p:spTgt spid="9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Temperature and reaction r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60912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685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8.61 Rates are typically 2-3 times gre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85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8.62 Rate is proportional to the number of collisions per second among react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85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8.63 reactant orientation and activation energ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85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8.64 This happens because a larger fraction of the reactant molecules possess the minimum energy necessary to surpass 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85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-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Ability to meet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(molecules that are well mixed will have a greater chance of collid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85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Concentration of reactants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(more molecules means more collis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85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Temperature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(faster moving molecules means more collisions per unit of time). Plu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2" dur="1" fill="hold"/>
                                  <p:tgtEl>
                                    <p:spTgt spid="9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Temperature and reaction r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609480"/>
            <a:ext cx="89917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4320" indent="-2743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emonstrations: Mg + O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, H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+ O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y increasing the temperature, a small number of molecules reach Ea.  The reaction is exothermic, further increasing temperature and causing more molecules to reach Ea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raw the M-B distribution for H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+ O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before heat was applied.  Show how heat affects the dia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7"/>
          <p:cNvSpPr/>
          <p:nvPr/>
        </p:nvSpPr>
        <p:spPr>
          <a:xfrm>
            <a:off x="2895480" y="5029200"/>
            <a:ext cx="5562720" cy="1150920"/>
          </a:xfrm>
          <a:prstGeom prst="pie">
            <a:avLst/>
          </a:prstGeom>
          <a:noFill/>
          <a:ln w="57240">
            <a:solidFill>
              <a:srgbClr val="66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Group 12"/>
          <p:cNvGrpSpPr/>
          <p:nvPr/>
        </p:nvGrpSpPr>
        <p:grpSpPr>
          <a:xfrm>
            <a:off x="7391520" y="5029200"/>
            <a:ext cx="1066680" cy="1600200"/>
            <a:chOff x="7391520" y="5029200"/>
            <a:chExt cx="1066680" cy="1600200"/>
          </a:xfrm>
        </p:grpSpPr>
        <p:sp>
          <p:nvSpPr>
            <p:cNvPr id="100" name="Line 10"/>
            <p:cNvSpPr/>
            <p:nvPr/>
          </p:nvSpPr>
          <p:spPr>
            <a:xfrm>
              <a:off x="7543800" y="5029200"/>
              <a:ext cx="0" cy="99072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11"/>
            <p:cNvSpPr/>
            <p:nvPr/>
          </p:nvSpPr>
          <p:spPr>
            <a:xfrm>
              <a:off x="7391520" y="6095880"/>
              <a:ext cx="1066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90000"/>
                  </a:solidFill>
                  <a:latin typeface="Arial"/>
                </a:rPr>
                <a:t>E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Group 14"/>
          <p:cNvGrpSpPr/>
          <p:nvPr/>
        </p:nvGrpSpPr>
        <p:grpSpPr>
          <a:xfrm>
            <a:off x="685800" y="4343400"/>
            <a:ext cx="7467480" cy="2435040"/>
            <a:chOff x="685800" y="4343400"/>
            <a:chExt cx="7467480" cy="2435040"/>
          </a:xfrm>
        </p:grpSpPr>
        <p:sp>
          <p:nvSpPr>
            <p:cNvPr id="103" name="Line 15"/>
            <p:cNvSpPr/>
            <p:nvPr/>
          </p:nvSpPr>
          <p:spPr>
            <a:xfrm>
              <a:off x="2921040" y="4343400"/>
              <a:ext cx="2880" cy="183168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16"/>
            <p:cNvSpPr/>
            <p:nvPr/>
          </p:nvSpPr>
          <p:spPr>
            <a:xfrm flipV="1">
              <a:off x="2921040" y="6172200"/>
              <a:ext cx="5232240" cy="288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Freeform 17"/>
            <p:cNvSpPr/>
            <p:nvPr/>
          </p:nvSpPr>
          <p:spPr>
            <a:xfrm>
              <a:off x="2921040" y="4491000"/>
              <a:ext cx="3738240" cy="1684080"/>
            </a:xfrm>
            <a:prstGeom prst="pie">
              <a:avLst/>
            </a:prstGeom>
            <a:noFill/>
            <a:ln w="381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18"/>
            <p:cNvSpPr/>
            <p:nvPr/>
          </p:nvSpPr>
          <p:spPr>
            <a:xfrm>
              <a:off x="685800" y="4949640"/>
              <a:ext cx="20937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90000"/>
                  </a:solidFill>
                  <a:latin typeface="Arial"/>
                </a:rPr>
                <a:t>Fraction of molecul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19"/>
            <p:cNvSpPr/>
            <p:nvPr/>
          </p:nvSpPr>
          <p:spPr>
            <a:xfrm>
              <a:off x="3133440" y="6321240"/>
              <a:ext cx="387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90000"/>
                  </a:solidFill>
                  <a:latin typeface="Arial"/>
                </a:rPr>
                <a:t>Kinetic energy </a:t>
              </a:r>
              <a:r>
                <a:rPr b="1" lang="en-US" sz="3200" spc="-1" strike="noStrike">
                  <a:solidFill>
                    <a:srgbClr val="990000"/>
                  </a:solidFill>
                  <a:latin typeface="Symbol"/>
                  <a:ea typeface="Symbol"/>
                </a:rPr>
                <a:t>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Text Box 20"/>
          <p:cNvSpPr/>
          <p:nvPr/>
        </p:nvSpPr>
        <p:spPr>
          <a:xfrm>
            <a:off x="5181480" y="4038480"/>
            <a:ext cx="396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hift due to higher temp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4T04:35:54Z</dcterms:created>
  <dc:creator>Jeremy Schneider</dc:creator>
  <dc:description>Copyright 2007 - All Rights Reserved -
visit www.chalkbored.com for details</dc:description>
  <dc:language>en-US</dc:language>
  <cp:lastModifiedBy>Cheryl Ann Madeira</cp:lastModifiedBy>
  <cp:lastPrinted>1999-11-24T09:00:10Z</cp:lastPrinted>
  <dcterms:modified xsi:type="dcterms:W3CDTF">2010-03-26T01:18:15Z</dcterms:modified>
  <cp:revision>81</cp:revision>
  <dc:subject>Chemistry Resources for High School Teachers and Students - PowerPoint Lessons, Notes, Labs, Worksheets, Handouts, Practice Problems, and Solutions.</dc:subject>
  <dc:title>PowerPoint - Collision Theory, Reaction Rate, Maxwell-Boltzman</dc:title>
</cp:coreProperties>
</file>